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077-4C4D-4813-9D0A-3B8199DA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529-7059-48AC-B2C2-C5505C43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E3AE7-19D1-47A6-92F4-D0A59A91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A3A63-D327-46F2-9971-D69645CB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FC079-2570-4098-ADFF-A7F387A8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B219E-5032-477D-BA39-16184705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DD1F7-B1C7-416C-9E81-4158396A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7BCAA-966D-49F5-8657-028BF538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36059-BD33-4045-AED8-49AFCF60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D6298-6F0D-4FA0-AD16-8D0B8669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34FBA-EBD6-44C7-8A8D-FE8E7E12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50D28-D9B3-4CE6-B108-6EEC9D6D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522-ABEB-4FF1-B91A-D8FCA786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A170F-CA07-426F-BCC6-2F82DFC3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A4F72-1BAC-4F88-BC94-8199F836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91507-2B91-4704-A888-3E5D3718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E0297-4FFE-47B0-BC89-0F104394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9B861-97BC-463A-8E30-CD2F81A7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F2688-4090-4CB1-8DC5-8B0B7DCA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149AB-8789-41B0-BE5B-4E997996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05477-ECC7-4D21-A1C3-0BDF444C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D1BCC-D14E-4774-B36A-8879864C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60C22-B500-4AD0-B3C4-7F59104D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8B77-1D37-4363-B001-F7CFFE13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47197-6D5A-4D7E-A830-2C861315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ACD1D-0362-426E-BAFA-97FC9947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5894D-1910-4609-9996-C9903758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12CA8-EF17-41E4-B61F-A163622F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E9115-8CE5-4DF8-BABE-A575291D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CDB4B-8C95-4B00-85D0-A8A85DB9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20575-8581-44AD-BF89-0082D5EC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3DCE6-4E16-4D86-B026-5B22CDD3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73CC6-8785-4BDA-A6A8-B5C88C98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5DDEE-6234-4A31-8F7E-8719572B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AA37-318A-4F4A-888D-44D5DCC7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3E334-8CFF-48B5-825A-A2CD93E6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551D3-B02B-46F4-9651-87D96F06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3F297-EFB0-478C-BB70-A6B6EA7C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561D4-34CF-48D5-9D9B-3856CBBB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BEE5D-C559-4A32-A921-572C37B8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F8BF0-A95F-4635-B56E-1FC00933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A0353-4E9C-44C0-B19C-6A45D2DD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5AFF9-2DCB-402C-8482-FC3D4A87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E380E-7E05-4A59-BCA7-C8593199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1EFD6-533A-4741-ADC6-66A2476C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34A0-CBCE-49FB-BFCB-13B84405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0AF6D-DDAE-46B9-BB2C-7965199C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195BD-EA3F-485A-9E83-A717DB11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E3C86-D1C6-4245-900C-2F15F4F8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FC6DA-B219-4EF9-8324-43AC6A1A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48333-F5BD-4AF1-9F42-B14DC255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60527-1E6B-4DBC-BEC8-E369775A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75FF9-32CD-4B8B-AFEB-C827E98C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53C29-31C6-4AAD-AE5B-8C89EADC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08B9E-CAE3-4B6D-95CF-12AC09C5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DD080-9EBE-452A-AB65-FBAC5175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97FD-5AD1-426F-A369-E8622BD2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2F2DF-528E-443A-BFFE-A0BA8691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E0CF0-B472-45BE-86D8-DBCD3876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8DC33E-09BA-425A-81A3-3BD01B59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FEF84-9241-451C-A0BB-1B20B9F5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2D22AB-14E5-41E3-9EF7-8981BFC6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C5182-3138-4CE2-94E0-5864D609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B492E-5C49-47F2-B74D-36B18CE4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DFE501-AE97-4CD8-A774-C50C9C20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C66427-AB46-4BAB-A3E0-ED410D24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2FB32-880F-4181-8A9A-DA5B27FA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5BA4-6D3C-49E8-ABA8-97185D15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B1E13C-4B39-4C60-B2B2-F5D398AC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3E5958-2652-49BA-BD15-9116573B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29A6A-FCD1-41A2-874A-B2F2A35E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6D797-3A6E-4EB4-BCCA-20261F2E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1F64FC-76A7-499F-AF6D-3BFBC73E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ABD2F6-42B8-440D-BB7B-08791697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3650D-283E-416D-B3C2-7099685F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C30CA9-D9EC-4E78-A736-7B1FB407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082827-62B0-4743-87AD-FA979047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DCE18-CE03-4071-87C9-9BABEC9D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AB73-3DAC-4DF6-B9AD-C55C6395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FF3096-15A2-4A30-A2F6-58F299A6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84DF91-0431-486F-B475-3317E511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BA9B74-DE49-4D64-8B11-0B29FE6F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18E1B4-22DF-44B0-B70C-81C20D7F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CC0718-EB18-41F8-8349-E1114589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E7FF3D-579E-4C96-9F68-6F66BB96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B5940C-5FB1-4906-9B46-ED012995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EF7344-BEB6-49BB-AD24-11524B1B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D8C422-6945-4F8B-BDCB-F792486A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CEB44B-6AAC-4961-AD5F-AE98C3A2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9EF2-21DB-4755-A393-5E1A4C96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8D61BB-3F31-4025-BDFE-539B2352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9383AC-ECAD-4666-B556-7B0BB02F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5C8344-75D5-46A4-B8C8-2C0D9D63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E9AE41-B70D-44A5-8012-18D5E540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97D7CD-82AB-4B82-85B8-4CA37C23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627F01-8A93-432C-9D92-C22F53BD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50A7E1-568D-4FA0-99A2-DC3B689D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78A59-3D9F-4650-938F-172CEE46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6B8E34-6E92-4003-A8A5-5137EF23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8E5F10-2770-48FA-B38C-5C99E908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266B-BBDF-484C-9599-CC99D19D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0DD4F2-F213-4DC7-A40B-91FAE4D6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E7CC6A-A831-4FD2-BA86-D5F0D5F9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C8359C-28D9-4300-8A2D-E4D06703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F1262D-CCE1-4340-8DC4-A10A5DBB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AA8F7A-1D9E-4118-8BE6-8C728734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1F9CE9-8AD5-46AD-BEBF-A8D05C73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CF8426-85D1-4A42-9CC4-A052234E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31BBA7-B800-474F-AB4E-A3ACE7A1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6D229C-3F8D-4E6B-A957-46353A46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613ACE-1BF1-4A3D-B52B-E1E2AB47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005-D226-45B9-9667-B06E813F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11B1-0C4F-435D-816E-A0B9BF51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17FA6B-DBC3-47E3-AB41-F88EA946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10522A-1810-47E8-8C52-48B535C9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D44A90-12CA-491D-AF5A-9004FC60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57035A-C3D0-41D5-9037-0F84BB58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4B85A2-AD6E-4922-A41E-DD64D35A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B3AA80-BE90-445B-A616-348928D0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DB2D3C-EBD6-4462-AADA-ED9F2464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9E9539-97F4-483B-89BC-13A10180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16C65-FE94-484F-B25B-680018B7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AB4E45-4AB2-4E5B-8899-8258F47A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0497-11D9-41DF-A0F0-721B5A23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F0EBE7-1731-41A6-ABDB-FD43F578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67539F-C396-4552-9417-D48411D8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342FB9-A4EF-473E-8B5F-DF43A993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4094EE-BC4B-4A3D-B353-7BA11009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FF646B-B719-417A-B791-16BA5CCF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5CDD32-6631-455C-8F11-E8741283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4D3469-0A59-4001-816F-D6098922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4E107A-E6C4-4A65-82BF-E8F6DF77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B93BD7-3FA5-44BD-92C4-C36E6EB1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3BEF07-D50F-4C7A-A70C-7AA9F352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160C-71AC-42C1-95F2-6CD488FF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DA3155-67DD-4B04-B036-AF07A10D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134066-8A41-4033-A598-13188FF4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5687CB-7140-4751-987F-DD94BB9C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600FE3-B357-4ED5-80E2-7C1B9B07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64CDD0-B494-4D03-98EF-680606DE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734369-6EF4-41A6-A598-779E4B5B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5674C5-6F8D-4ED0-8A18-CE5B99AF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ED984A-66B5-4161-88D5-DFA35019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21993F-776F-4583-8A4A-5106DE4B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DC5B3F-1FF1-441B-A115-D02531BD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DCA0-738D-4D10-836F-7C9706A3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3B3BC6-A59A-46BA-A047-40F42973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1E534B-E4B8-4912-99FB-23E1FAD5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E4A640-4571-4720-9B00-CB5061B0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F4C3C0-0004-4D45-9B11-59C6A215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45CFDC-AC25-4F8F-BE22-88A2C5CF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06513B-B1EF-4205-ACD1-94AC8275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1632CB-8A57-4572-9D18-D0FBBBA4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CAD13B-F400-439F-B6DC-20392DEE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8625E9-77AB-4083-9483-9F5E4876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1ABDE0-C6C3-4F53-A69F-A8797F22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853E-2755-4095-B470-CEE51AAB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695180-FCAA-4DDE-81DB-FC3DC98D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224D23-827B-4830-9B6C-882D9816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399913-3AD9-435D-9741-50C0095B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97986B-3066-4958-87EE-6ACF0829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538A1C-130B-44ED-AC19-F2A05195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3A5780-3D0D-483C-B6F0-B0EF9FED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9117FD-6957-4F0B-9DA1-7EEF3A4C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3AEF1D-FA89-40C3-9A75-4F250F30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D4309B-F7CB-40EF-816B-3DCC03E7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DAB5DC-AE82-458F-8752-F446DDF0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2AFE9-DB71-4793-9DAA-759E8AC2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D74DA1-5252-4031-9A6E-13CCD255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5B98C3-1965-41FC-8FB9-1E699E60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169FAF-8863-41E1-884D-216408AE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9F2A2-87CE-481E-A68D-9CA8AD25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C94D6-B8C9-47F4-B1AF-C5434DB8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FCFAE-55E3-4095-BCA7-1B11CCA2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8E2EE-EFCA-42C3-AE0E-8AE90CE8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E34-05EB-425E-B01C-05444282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01FEB-EB07-49FB-AE2D-F437BD1F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3508A-E663-4772-9787-7DAF8E5F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F588B-90D7-4F5E-9DD9-B891ED37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05303-A674-46D7-941B-134410A1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F6DFE-F343-4039-9B80-69C69E39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F7B5E-4240-46C7-8625-161A3DA2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0E96F-9A19-4A74-85B3-60C34A03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E28E0-8993-42F5-9FFD-AE82885A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5392A-7753-4AD2-938A-CD04E61B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E9C9F-D75B-47B1-8307-58BE6D35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549-F883-49FE-9883-243D3D01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BDC1F-E891-4C48-B169-EE6A1D53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05048-284F-46B9-A307-08CBEBEA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0B992-81BF-4341-AFD4-FE66D690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3537F-439F-4A7F-AC65-1F33E61A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A3E32-603A-460B-9236-2D86AA30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C9FA8-B03F-4C08-98FB-5A704399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70934-8EDE-4761-94C6-634D797A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AA9CF-E531-4FF8-B2E0-1654C51C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BD1F6-FF8A-4774-BAA2-9AEAC146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981E8-1F1A-4517-9292-205CA495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484-5240-483B-A75E-6BE92BBF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75E7C-0A5F-493D-9197-D224B4C4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76F26-8118-45D6-97B7-379A580D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2DADF-01A8-4B0E-B180-00CE19F7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0C0F1-996B-41E1-A2AD-D4D6CD47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32F69-68D2-4F66-AC6F-34570865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A870C-2C0D-4AF3-99BD-68139020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362D1-6C8A-4CBF-8304-8DE5B387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D0CC0-127F-4FBA-B1C7-AECA2EB1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9C07B-38EC-48D7-ABC8-9A8D81BE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34CC4-CF93-4AA1-B633-F03A34E2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75E-35BB-4423-970F-96C8340C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431D9-5913-4AA4-9720-34B509F6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6D766-DE66-4BFF-90D7-94FC09E6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34E68-8346-417D-AA2E-2477DFDB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8A81D-43F3-46C2-8492-047CB355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3F70A-B4A5-47A6-A16C-B22F72BE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5D457-408D-4069-81A4-F6A2D5CC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5C477-9FA6-4AD6-AF8E-036ECA8C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44309-DFEA-4A47-BAC5-226CBDBB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F175F-0AF2-4B4D-A921-68C9DB90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4EED9-E5EF-4712-A05D-D7143A94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FEA-490E-42F5-A763-EBB110BD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F6D7C-0909-4D73-BA18-70EF5691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74AD1-C746-44C0-93B1-7FC404AF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42A7E-1157-44F1-8656-63779CC0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6486F-489E-41A3-86DD-3D76C82D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E70D1-B252-429F-9980-C3F4B79B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F79A0-3EBD-456C-BCE3-DEC3E316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28E4D-748E-4922-BB4E-E9F218EF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1C22F-ABAE-4EF1-A760-694524A1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82E72-068C-481E-ABC7-5CADDAF8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1B002-FF1F-4423-9398-89CA740A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9A32-AE3C-44FF-8D0B-5C721A3F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A9B6F-6897-45C6-8042-7744C7EE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B7442-7484-4FB5-9B55-3190CE4D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D0BC0-DD99-402A-B90A-FC07CA82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ABE3F-92F1-4ADA-AF5B-85448756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88E54-9605-4D57-8377-5785DF2A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C1575-5586-470B-976A-55626A4D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A2453-A426-4EC0-B845-C3867F4F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682DC-E56A-4AB5-A992-A64C43F9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05799-7ABD-4C29-B751-41F3A650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3DE0F-51C8-4D3B-9CC7-FE772ED1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B7E-DC33-4A02-82DA-26FBB38A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5C422-1852-4DD1-BB91-4248EDCC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9A573-38B5-4FB3-8B10-A206872D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5390F-4672-48B2-BAF3-E3CC5ED3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BF34C-D40F-44A8-87FB-7A036DF7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C1EA2-1512-4B2A-A6CF-BEB73C14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551E3-5233-4285-897B-658BBAF1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936A0-5D50-4698-924E-7745DB73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C05C9-26CD-4E22-8E2C-2AA1A018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CCB30-B4CC-4C93-BAE6-6ECF0665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ABC7D-A719-4B39-BD68-E9AFBCE5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A079-F545-4128-9C4B-826FF212BD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8C09-F350-4289-9BAD-92437759C8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BCDD-1473-4ABC-ABB1-61A93E9355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A5B1-8747-49FF-93FC-6FA5041D7B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46CB-F04D-4675-B051-5FDB9EC036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21AE-4692-4B05-BE0F-4BEF0EAE60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469F-C1BD-4517-9C79-56BD993C4C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8A41-45A5-488D-A88B-C7E462C67B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8C00-C35B-4558-A938-3CFF8A6133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B181-AFDF-4283-BF51-6CFF034AD3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F006-7137-4C3C-8894-43F0EB8BFF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507A-E2C9-44E3-8D3A-28615AC6B0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74BC-5E36-44EA-8825-7A6E7B7103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3E53-727B-404B-89FD-9D12DF98F5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B4FC-A796-4BFA-87C9-D6C6033C52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3EF0-028F-4D8A-8D08-5B52705F1A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66A9-2FDD-424C-B8D5-6270ACBDB6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2E1A-C5D5-47CD-80F8-5115DC12DD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B1EA-3271-44F9-93BC-8C5A66B21B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47E4-72B6-460C-883A-3BF9AE973A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17AF-E945-4C3F-AEEA-23310911B6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8DB8-9DA5-48A6-A2E4-906B61C897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38CD-6089-47EC-9FEC-B68C48504F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AADD-426C-4C31-8A2A-A19FE6FA8A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44F2-596B-4DB7-A07D-294E5D7545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E9E1-D96B-4089-B277-61583EAAD6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6879-881B-47C9-A15E-A2C5574A8A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8931-FB09-4105-82A8-9322400CAD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79C0-1399-42F4-A945-E2C948F895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8AA3-A490-4458-B3CA-6BBF0A7178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87C8-554C-4021-9BE4-37F0DAE215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9AEB-6400-461E-A53B-F1CD3DAC00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A9AA-4300-4801-8B7F-F1C41472CC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F84F-672A-4AE8-9AC9-A27987B884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8858-F264-46E2-856F-D3D143A67A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DCE6-2B9B-4B54-BB32-7DD10BABB4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349A-09E4-4E11-A20B-9D079E6AE7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34BC-6F64-4D8A-A859-4FA7704760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69A0-6FEA-448E-8771-4B61EFBABA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81CA-1277-428C-B839-8541CCE6BF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019240" y="1700280"/>
            <a:ext cx="5105520" cy="9810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209600" y="3205080"/>
            <a:ext cx="67248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69633" descr=""/>
          <p:cNvPicPr/>
          <p:nvPr/>
        </p:nvPicPr>
        <p:blipFill>
          <a:blip r:embed="rId1"/>
          <a:stretch/>
        </p:blipFill>
        <p:spPr>
          <a:xfrm>
            <a:off x="257040" y="766800"/>
            <a:ext cx="8629920" cy="53244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4680000" cy="4939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684360" y="4221000"/>
            <a:ext cx="4679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8609" descr=""/>
          <p:cNvPicPr/>
          <p:nvPr/>
        </p:nvPicPr>
        <p:blipFill>
          <a:blip r:embed="rId1"/>
          <a:stretch/>
        </p:blipFill>
        <p:spPr>
          <a:xfrm>
            <a:off x="1128600" y="1125360"/>
            <a:ext cx="6886800" cy="2143440"/>
          </a:xfrm>
          <a:prstGeom prst="rect">
            <a:avLst/>
          </a:prstGeom>
          <a:ln w="0">
            <a:noFill/>
          </a:ln>
        </p:spPr>
      </p:pic>
      <p:pic>
        <p:nvPicPr>
          <p:cNvPr id="958" name="图片 68610" descr=""/>
          <p:cNvPicPr/>
          <p:nvPr/>
        </p:nvPicPr>
        <p:blipFill>
          <a:blip r:embed="rId2"/>
          <a:stretch/>
        </p:blipFill>
        <p:spPr>
          <a:xfrm>
            <a:off x="81000" y="3537000"/>
            <a:ext cx="8982000" cy="21240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4788000" y="155736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7596360" y="155736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4427640" y="2147760"/>
            <a:ext cx="576000" cy="8636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7524720" y="2147760"/>
            <a:ext cx="576360" cy="8636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1763640" y="3860640"/>
            <a:ext cx="576360" cy="7192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8"/>
          <a:stretch/>
        </p:blipFill>
        <p:spPr>
          <a:xfrm>
            <a:off x="4356000" y="3789360"/>
            <a:ext cx="576360" cy="7920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9"/>
          <a:stretch/>
        </p:blipFill>
        <p:spPr>
          <a:xfrm>
            <a:off x="8028000" y="387504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0"/>
          <a:stretch/>
        </p:blipFill>
        <p:spPr>
          <a:xfrm>
            <a:off x="1590840" y="4811760"/>
            <a:ext cx="936360" cy="4935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1"/>
          <a:stretch/>
        </p:blipFill>
        <p:spPr>
          <a:xfrm>
            <a:off x="5119560" y="479736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2"/>
          <a:stretch/>
        </p:blipFill>
        <p:spPr>
          <a:xfrm>
            <a:off x="8388360" y="4753080"/>
            <a:ext cx="684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57040" y="804960"/>
            <a:ext cx="8629920" cy="52480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3276720" y="299736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7524720" y="2997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3995640" y="3645000"/>
            <a:ext cx="108108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5867280" y="42354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2340000" y="5530680"/>
            <a:ext cx="71928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6877080" y="5516640"/>
            <a:ext cx="1008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614520" y="1238400"/>
            <a:ext cx="7914960" cy="43812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2411280" y="2492280"/>
            <a:ext cx="122400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2268360" y="3759120"/>
            <a:ext cx="2016360" cy="49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2268360" y="5027760"/>
            <a:ext cx="648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590400" y="1547640"/>
            <a:ext cx="7963200" cy="37627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4716360" y="2205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1476360" y="404820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3203640" y="4033800"/>
            <a:ext cx="86364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5003640" y="409104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6"/>
          <a:stretch/>
        </p:blipFill>
        <p:spPr>
          <a:xfrm>
            <a:off x="2627280" y="4738680"/>
            <a:ext cx="1224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7352" descr=""/>
          <p:cNvPicPr/>
          <p:nvPr/>
        </p:nvPicPr>
        <p:blipFill>
          <a:blip r:embed="rId1"/>
          <a:stretch/>
        </p:blipFill>
        <p:spPr>
          <a:xfrm>
            <a:off x="295200" y="1481040"/>
            <a:ext cx="8553600" cy="3895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5364000" y="2205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3780000" y="4206960"/>
            <a:ext cx="576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647640" y="2052720"/>
            <a:ext cx="7848720" cy="2752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7164360" y="206064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271440" y="1109520"/>
            <a:ext cx="8601120" cy="4638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4356000" y="1773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1042920" y="517212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504720" y="1876320"/>
            <a:ext cx="8134560" cy="310536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54277" descr=""/>
          <p:cNvPicPr/>
          <p:nvPr/>
        </p:nvPicPr>
        <p:blipFill>
          <a:blip r:embed="rId2"/>
          <a:stretch/>
        </p:blipFill>
        <p:spPr>
          <a:xfrm>
            <a:off x="871560" y="3021120"/>
            <a:ext cx="2333520" cy="181908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54278" descr=""/>
          <p:cNvPicPr/>
          <p:nvPr/>
        </p:nvPicPr>
        <p:blipFill>
          <a:blip r:embed="rId3"/>
          <a:stretch/>
        </p:blipFill>
        <p:spPr>
          <a:xfrm>
            <a:off x="3544920" y="2963880"/>
            <a:ext cx="3162240" cy="187632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54279" descr=""/>
          <p:cNvPicPr/>
          <p:nvPr/>
        </p:nvPicPr>
        <p:blipFill>
          <a:blip r:embed="rId4"/>
          <a:stretch/>
        </p:blipFill>
        <p:spPr>
          <a:xfrm>
            <a:off x="6905520" y="3051000"/>
            <a:ext cx="16671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2231" descr=""/>
          <p:cNvPicPr/>
          <p:nvPr/>
        </p:nvPicPr>
        <p:blipFill>
          <a:blip r:embed="rId1"/>
          <a:stretch/>
        </p:blipFill>
        <p:spPr>
          <a:xfrm>
            <a:off x="299880" y="1238400"/>
            <a:ext cx="8544240" cy="438120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52232" descr=""/>
          <p:cNvPicPr/>
          <p:nvPr/>
        </p:nvPicPr>
        <p:blipFill>
          <a:blip r:embed="rId2"/>
          <a:stretch/>
        </p:blipFill>
        <p:spPr>
          <a:xfrm>
            <a:off x="1681200" y="3390840"/>
            <a:ext cx="57816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21:4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